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B80-4263-4DB4-8791-C3D3A81E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697-7A6E-46BF-9C30-4D4A793A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AF9-BD27-4E12-AD44-9AA90CD8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167-6288-4719-92B6-D1D8BF6C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144-ECE3-48E1-AD48-0550640F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5C2-77F9-40D3-8189-D883729B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791-E4F0-4396-A819-B47FFE68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C46-84F7-4BE3-AE03-98E35AD9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9A6-B7A0-4771-BF3A-EC3421D3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CCF-088A-458C-B57F-1ABE62D8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606-7BA9-4466-9FEE-8FBE9D5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FFC-1CBB-4045-BFC2-D1CEC5C0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D2AE-3BB3-4892-B279-3452EE2D8E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09480"/>
            <a:ext cx="6400800" cy="45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548080"/>
            <a:ext cx="6400800" cy="53316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68800" y="1546200"/>
            <a:ext cx="784080" cy="762120"/>
          </a:xfrm>
          <a:prstGeom prst="ellipse">
            <a:avLst/>
          </a:prstGeom>
          <a:gradFill rotWithShape="0">
            <a:gsLst>
              <a:gs pos="0">
                <a:srgbClr val="33350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9144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762120"/>
            <a:ext cx="6400800" cy="3124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219320"/>
            <a:ext cx="6400800" cy="3124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676520"/>
            <a:ext cx="6400800" cy="3124080"/>
          </a:xfrm>
          <a:prstGeom prst="line">
            <a:avLst/>
          </a:prstGeom>
          <a:ln w="9360">
            <a:solidFill>
              <a:srgbClr val="000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33640" y="9460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9144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28920" y="15555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60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の</a:t>
            </a:r>
            <a:r>
              <a:rPr b="0" i="1" lang="ja-JP" sz="60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星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24200" y="2514600"/>
            <a:ext cx="229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n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Sei tet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4520" y="24382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81400" y="2416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228600"/>
            <a:ext cx="8229600" cy="59436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100000">
                <a:srgbClr val="1c1c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62120" y="533160"/>
            <a:ext cx="6705360" cy="518148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62120" y="1981080"/>
            <a:ext cx="7543800" cy="373392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533520"/>
            <a:ext cx="838440" cy="144756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71600" y="609480"/>
            <a:ext cx="2171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HG正楷書体-PRO"/>
              </a:rPr>
              <a:t>銀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HG正楷書体-PRO"/>
              <a:ea typeface="HG正楷書体-PRO"/>
            </a:endParaRPr>
          </a:p>
        </p:txBody>
      </p:sp>
      <p:sp>
        <p:nvSpPr>
          <p:cNvPr id="59" name=""/>
          <p:cNvSpPr/>
          <p:nvPr/>
        </p:nvSpPr>
        <p:spPr>
          <a:xfrm>
            <a:off x="3376440" y="1295280"/>
            <a:ext cx="1943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0" spc="-1" strike="noStrike">
                <a:solidFill>
                  <a:srgbClr val="ccecff"/>
                </a:solidFill>
                <a:latin typeface="Times New Roman"/>
                <a:ea typeface="HG正楷書体-PRO"/>
              </a:rPr>
              <a:t>の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1219320"/>
            <a:ext cx="194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の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43680" y="533520"/>
            <a:ext cx="262872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HG正楷書体-PRO"/>
              </a:rPr>
              <a:t>楔</a:t>
            </a:r>
            <a:endParaRPr b="0" lang="en-US" sz="66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HG正楷書体-PRO"/>
              <a:ea typeface="HG正楷書体-PRO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銀の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289548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　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W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609480"/>
            <a:ext cx="6400800" cy="45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548080"/>
            <a:ext cx="6400800" cy="53316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68800" y="1546200"/>
            <a:ext cx="784080" cy="762120"/>
          </a:xfrm>
          <a:prstGeom prst="ellipse">
            <a:avLst/>
          </a:prstGeom>
          <a:gradFill rotWithShape="0">
            <a:gsLst>
              <a:gs pos="0">
                <a:srgbClr val="33350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9144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762120"/>
            <a:ext cx="6400800" cy="3124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219320"/>
            <a:ext cx="6400800" cy="3124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676520"/>
            <a:ext cx="6400800" cy="3124080"/>
          </a:xfrm>
          <a:prstGeom prst="line">
            <a:avLst/>
          </a:prstGeom>
          <a:ln w="9360">
            <a:solidFill>
              <a:srgbClr val="000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yonaga</cp:lastModifiedBy>
  <dcterms:modified xsi:type="dcterms:W3CDTF">2011-11-12T05:01:23Z</dcterms:modified>
  <cp:revision>10</cp:revision>
  <dc:subject/>
  <dc:title>PowerPoint Presentation</dc:title>
</cp:coreProperties>
</file>